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2065-C6E9-4AAB-9DB0-E2B2EF96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F2A0-7B1A-4B3F-A008-DCE30C12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0DB7-9864-4CA5-A247-011295AF7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254F-D2A7-4AFA-82A4-305DC1468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58F7-D364-42C7-A6DA-BD6A200C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7006-689E-40D0-B0DF-6AA22B03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960B-7AFE-4050-8A73-F3A6E210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7DA7-168C-4FDD-A7C7-777284C6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39E5-4D19-43F5-9179-7A489D30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78CC-E4F9-4C3C-BB1A-3FA3ED53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E7B1-2618-4EDA-A5D6-2E361021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BAE5-168E-44B2-BCC7-EF34AA3D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8E94-24C6-4884-ABFE-FC77CE84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A335-644A-4540-87D2-07E6A9F1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9E56-D933-442D-A3D7-623F4383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51B9-3D39-498B-B30C-E3273290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4BCE-4B34-4A63-A960-F95505C64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ACAC-0323-4439-9382-2A049540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E49C-9B2E-48AA-8EB2-D049852A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8028-A1DE-4972-A222-35F07C57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115F-16B4-414C-82B7-DF6272D4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D38A-1F3B-4061-AC2D-CB0EAAEF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3853-A9F5-4811-909D-637A5F97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B5AA-B2E8-4F74-9DE9-44817126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CF4B-8153-40E6-8650-E26DC9D4BB1F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C6CD-20EA-40E9-A3C2-77E1A7B1772B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603360" y="255600"/>
            <a:ext cx="857088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317520" y="158760"/>
            <a:ext cx="8435880" cy="2071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611280" y="21492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3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устанавливается машине или рабочему месту по операциям поток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353880" y="396720"/>
            <a:ext cx="8193240" cy="1090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571320" y="2857680"/>
            <a:ext cx="350028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читываетс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1"/>
              <p:cNvSpPr txBox="1"/>
              <p:nvPr/>
            </p:nvSpPr>
            <p:spPr>
              <a:xfrm>
                <a:off x="4071960" y="2714760"/>
                <a:ext cx="428616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нпл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д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з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93560" y="523800"/>
            <a:ext cx="8474400" cy="30546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"/>
              <p:cNvSpPr txBox="1"/>
              <p:nvPr/>
            </p:nvSpPr>
            <p:spPr>
              <a:xfrm>
                <a:off x="571680" y="4000680"/>
                <a:ext cx="7929360" cy="17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д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м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Т</m:t>
                            </m:r>
                          </m:e>
                          <m:sub>
                            <m:r>
                              <m:t xml:space="preserve">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пе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м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93560" y="450720"/>
            <a:ext cx="8193240" cy="32673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1"/>
              <p:cNvSpPr txBox="1"/>
              <p:nvPr/>
            </p:nvSpPr>
            <p:spPr>
              <a:xfrm>
                <a:off x="428760" y="3929040"/>
                <a:ext cx="8286480" cy="23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нпл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1"/>
          <a:stretch/>
        </p:blipFill>
        <p:spPr>
          <a:xfrm>
            <a:off x="353880" y="487440"/>
            <a:ext cx="8272440" cy="32065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"/>
              <p:cNvSpPr txBox="1"/>
              <p:nvPr/>
            </p:nvSpPr>
            <p:spPr>
              <a:xfrm>
                <a:off x="428760" y="4286160"/>
                <a:ext cx="8072280" cy="21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t xml:space="preserve">з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пр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79200" y="566640"/>
            <a:ext cx="9210960" cy="27259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"/>
              <p:cNvSpPr txBox="1"/>
              <p:nvPr/>
            </p:nvSpPr>
            <p:spPr>
              <a:xfrm>
                <a:off x="357120" y="4143240"/>
                <a:ext cx="8429760" cy="24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нпл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1"/>
          <a:stretch/>
        </p:blipFill>
        <p:spPr>
          <a:xfrm>
            <a:off x="311040" y="195120"/>
            <a:ext cx="8613720" cy="2133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28760" y="2356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ширение сферы применения ПЛ на предприятиях, создание сквозных потоков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ход (там, где это возможно) к более совершенным организационным формам поточного производства, в частности от ППЛ к НПЛ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ециализация ПЛ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ышение уровня механизации и автоматизации производственных процесс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395280" y="875880"/>
            <a:ext cx="8569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MS Mincho"/>
              </a:rPr>
              <a:t>При характеристике поточного производства на перерабатывающих предприятиях необходимо рассматривать и анализировать следующие </a:t>
            </a:r>
            <a:r>
              <a:rPr b="1" i="1" lang="ru-RU" sz="2800" spc="-1" strike="noStrike">
                <a:solidFill>
                  <a:srgbClr val="0d0d0d"/>
                </a:solidFill>
                <a:latin typeface="Times New Roman"/>
                <a:ea typeface="MS Mincho"/>
              </a:rPr>
              <a:t>показатели работы НПЛ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MS Mincho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d0d0d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MS Mincho"/>
              </a:rPr>
              <a:t>такт (ритм) поточной лин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d0d0d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MS Mincho"/>
              </a:rPr>
              <a:t>производственное задание П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d0d0d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MS Mincho"/>
              </a:rPr>
              <a:t>потребное количество рабочих мест (оборудования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d0d0d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MS Mincho"/>
              </a:rPr>
              <a:t>число рабочих на П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d0d0d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MS Mincho"/>
              </a:rPr>
              <a:t>скорость конвейер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d0d0d"/>
              </a:buClr>
              <a:buFont typeface="Times New Roman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MS Mincho"/>
              </a:rPr>
              <a:t>длина конвейе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324000" y="-489960"/>
            <a:ext cx="8424720" cy="35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MS Mincho"/>
              </a:rPr>
              <a:t>Главной особенностью НПЛ является полная согласованность </a:t>
            </a:r>
            <a:r>
              <a:rPr b="1" lang="en-US" sz="1800" spc="-1" strike="noStrike">
                <a:solidFill>
                  <a:srgbClr val="0d0d0d"/>
                </a:solidFill>
                <a:latin typeface="Times New Roman"/>
                <a:ea typeface="MS Mincho"/>
              </a:rPr>
              <a:t>t</a:t>
            </a:r>
            <a:r>
              <a:rPr b="1" lang="en-US" sz="1800" spc="-1" strike="noStrike" baseline="-30000">
                <a:solidFill>
                  <a:srgbClr val="0d0d0d"/>
                </a:solidFill>
                <a:latin typeface="Times New Roman"/>
                <a:ea typeface="MS Mincho"/>
              </a:rPr>
              <a:t>i</a:t>
            </a: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MS Mincho"/>
              </a:rPr>
              <a:t> ритму линии. Приведение технологического процесса к такому условию </a:t>
            </a:r>
            <a:r>
              <a:rPr b="1" lang="en-US" sz="1800" spc="-1" strike="noStrike">
                <a:solidFill>
                  <a:srgbClr val="0d0d0d"/>
                </a:solidFill>
                <a:latin typeface="Times New Roman"/>
                <a:ea typeface="MS Mincho"/>
              </a:rPr>
              <a:t>t</a:t>
            </a:r>
            <a:r>
              <a:rPr b="1" lang="en-US" sz="1800" spc="-1" strike="noStrike" baseline="-30000">
                <a:solidFill>
                  <a:srgbClr val="0d0d0d"/>
                </a:solidFill>
                <a:latin typeface="Times New Roman"/>
                <a:ea typeface="MS Mincho"/>
              </a:rPr>
              <a:t>i </a:t>
            </a: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MS Mincho"/>
              </a:rPr>
              <a:t>= или кратны </a:t>
            </a:r>
            <a:r>
              <a:rPr b="1" lang="en-US" sz="1800" spc="-1" strike="noStrike">
                <a:solidFill>
                  <a:srgbClr val="0d0d0d"/>
                </a:solidFill>
                <a:latin typeface="Times New Roman"/>
                <a:ea typeface="MS Mincho"/>
              </a:rPr>
              <a:t>R</a:t>
            </a:r>
            <a:r>
              <a:rPr b="1" lang="ru-RU" sz="1800" spc="-1" strike="noStrike" baseline="-30000">
                <a:solidFill>
                  <a:srgbClr val="0d0d0d"/>
                </a:solidFill>
                <a:latin typeface="Times New Roman"/>
                <a:ea typeface="MS Mincho"/>
              </a:rPr>
              <a:t>пл </a:t>
            </a: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MS Mincho"/>
              </a:rPr>
              <a:t>называется </a:t>
            </a:r>
            <a:r>
              <a:rPr b="1" i="1" lang="ru-RU" sz="1800" spc="-1" strike="noStrike">
                <a:solidFill>
                  <a:srgbClr val="0d0d0d"/>
                </a:solidFill>
                <a:latin typeface="Times New Roman"/>
                <a:ea typeface="MS Mincho"/>
              </a:rPr>
              <a:t>синхронизацией,</a:t>
            </a: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MS Mincho"/>
              </a:rPr>
              <a:t> которая бывает: полной, т.е. выравнивание длительности всех операций техпроцесса; частичной, т.е. выравнивание только тех операций, перед которыми образуются задел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MS Mincho"/>
              </a:rPr>
              <a:t>Однако целесообразность проведения синхронизации должна быть обоснованной. Рассчитывают </a:t>
            </a:r>
            <a:r>
              <a:rPr b="1" i="1" lang="ru-RU" sz="1800" spc="-1" strike="noStrike">
                <a:solidFill>
                  <a:srgbClr val="0d0d0d"/>
                </a:solidFill>
                <a:latin typeface="Times New Roman"/>
                <a:ea typeface="MS Mincho"/>
              </a:rPr>
              <a:t>средний коэффициент синхронизации</a:t>
            </a: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MS Mincho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"/>
              <p:cNvSpPr txBox="1"/>
              <p:nvPr/>
            </p:nvSpPr>
            <p:spPr>
              <a:xfrm>
                <a:off x="3419640" y="3357720"/>
                <a:ext cx="165096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сх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/*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пр</m:t>
                                    </m:r>
                                  </m:sup>
                                </m:sSubSup>
                              </m:e>
                            </m:nary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2" name="Rectangle 3"/>
          <p:cNvSpPr/>
          <p:nvPr/>
        </p:nvSpPr>
        <p:spPr>
          <a:xfrm>
            <a:off x="343080" y="1811160"/>
            <a:ext cx="8476920" cy="32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MS Mincho"/>
              </a:rPr>
              <a:t>где Σ</a:t>
            </a:r>
            <a:r>
              <a:rPr b="1" lang="en-US" sz="1800" spc="-1" strike="noStrike">
                <a:solidFill>
                  <a:srgbClr val="0d0d0d"/>
                </a:solidFill>
                <a:latin typeface="Times New Roman"/>
                <a:ea typeface="MS Mincho"/>
              </a:rPr>
              <a:t>t</a:t>
            </a:r>
            <a:r>
              <a:rPr b="1" lang="en-US" sz="1800" spc="-1" strike="noStrike" baseline="-30000">
                <a:solidFill>
                  <a:srgbClr val="0d0d0d"/>
                </a:solidFill>
                <a:latin typeface="Times New Roman"/>
                <a:ea typeface="MS Mincho"/>
              </a:rPr>
              <a:t>i</a:t>
            </a:r>
            <a:r>
              <a:rPr b="1" lang="ru-RU" sz="1800" spc="-1" strike="noStrike" baseline="-30000">
                <a:solidFill>
                  <a:srgbClr val="0d0d0d"/>
                </a:solidFill>
                <a:latin typeface="Times New Roman"/>
                <a:ea typeface="MS Mincho"/>
              </a:rPr>
              <a:t>        </a:t>
            </a: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MS Mincho"/>
              </a:rPr>
              <a:t>- сумма операций технологического процесс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MS Mincho"/>
              </a:rPr>
              <a:t>      </a:t>
            </a: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MS Mincho"/>
              </a:rPr>
              <a:t>Σ</a:t>
            </a:r>
            <a:r>
              <a:rPr b="1" lang="en-US" sz="1800" spc="-1" strike="noStrike">
                <a:solidFill>
                  <a:srgbClr val="0d0d0d"/>
                </a:solidFill>
                <a:latin typeface="Times New Roman"/>
                <a:ea typeface="MS Mincho"/>
              </a:rPr>
              <a:t>Q</a:t>
            </a:r>
            <a:r>
              <a:rPr b="1" lang="en-US" sz="1800" spc="-1" strike="noStrike" baseline="-30000">
                <a:solidFill>
                  <a:srgbClr val="0d0d0d"/>
                </a:solidFill>
                <a:latin typeface="Times New Roman"/>
                <a:ea typeface="MS Mincho"/>
              </a:rPr>
              <a:t>i</a:t>
            </a:r>
            <a:r>
              <a:rPr b="1" lang="ru-RU" sz="1800" spc="-1" strike="noStrike" baseline="30000">
                <a:solidFill>
                  <a:srgbClr val="0d0d0d"/>
                </a:solidFill>
                <a:latin typeface="Times New Roman"/>
                <a:ea typeface="MS Mincho"/>
              </a:rPr>
              <a:t>пр   </a:t>
            </a: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MS Mincho"/>
              </a:rPr>
              <a:t>- количество рабочих мест (машин, оборудования) на П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MS Mincho"/>
              </a:rPr>
              <a:t>      </a:t>
            </a:r>
            <a:r>
              <a:rPr b="1" lang="en-US" sz="1800" spc="-1" strike="noStrike">
                <a:solidFill>
                  <a:srgbClr val="0d0d0d"/>
                </a:solidFill>
                <a:latin typeface="Times New Roman"/>
                <a:ea typeface="MS Mincho"/>
              </a:rPr>
              <a:t>t</a:t>
            </a:r>
            <a:r>
              <a:rPr b="1" lang="en-US" sz="1800" spc="-1" strike="noStrike" baseline="-30000">
                <a:solidFill>
                  <a:srgbClr val="0d0d0d"/>
                </a:solidFill>
                <a:latin typeface="Times New Roman"/>
                <a:ea typeface="MS Mincho"/>
              </a:rPr>
              <a:t>max</a:t>
            </a: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MS Mincho"/>
              </a:rPr>
              <a:t>     - максимальная по времени операция технологического процес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484200"/>
            <a:ext cx="89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Производственное задан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устанавливается машине или рабочему месту по операциям потока. Производственное задание рассчитывает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1"/>
              <p:cNvSpPr txBox="1"/>
              <p:nvPr/>
            </p:nvSpPr>
            <p:spPr>
              <a:xfrm>
                <a:off x="4211640" y="2781360"/>
                <a:ext cx="7999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з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Rectangle 3"/>
          <p:cNvSpPr/>
          <p:nvPr/>
        </p:nvSpPr>
        <p:spPr>
          <a:xfrm>
            <a:off x="468360" y="3671640"/>
            <a:ext cx="83516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гд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N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R</a:t>
            </a:r>
            <a:r>
              <a:rPr b="1" lang="ru-RU" sz="28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- возможная или заданная выработка главной ведущей машины в единицу времен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К   - коэффициент, учитывающий объективные расхождения в качестве обрабатываемого сырь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493560" y="390600"/>
            <a:ext cx="8193240" cy="1541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500040" y="20714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ключается в создании условий для эффективного сочетания и использования всех его элементов (средств труда, предметов труда и рабочей силы)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611280" y="260280"/>
            <a:ext cx="8064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вершенствование организации производства позволяет увеличить выработку на тех же производственных площадях. Тем самым улучшается использование основных фондов, повышаются важнейшие технико-экономические показат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536400" y="268200"/>
            <a:ext cx="8193240" cy="1573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684360" y="17730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это способ осуществления производственного процесса, представляющий собой совокупность средств и приемов его реализаци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304920" y="237960"/>
            <a:ext cx="8808840" cy="2011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500040" y="22856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заимосвязь последовательности выполнения операций технологического процесса с порядком размещения оборудования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епень непрерывности производственного процесс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уществуют следующие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методы организации производства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поточный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точный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втоматизированный и другие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63680" y="457200"/>
            <a:ext cx="8192880" cy="101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меняется в основном в единичном мелкосерийном производстве. Характерен для ремонтно-механических и экспериментальных цехов. Это производство в организационном отношении довольно сложно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208080" y="268200"/>
            <a:ext cx="883260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это когда операции технологических процессов выполняют машины без участия рабочего. Функции рабочих - наладка, надзор, контроль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262080" y="182520"/>
            <a:ext cx="8583480" cy="1895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500040" y="2356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язательное разделение общего производственного процесса на отдельные операци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репление каждой операции за отдельным рабочим местом (оборудованием), т.е. наличие четкой специализаци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мещение во времени выполнения операци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медленная передача предметов труда с операции на операцию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оложение технологического оборудования и рабочих мест в порядке последовательности выполнения операций по ходу технологического процесс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07880" y="176040"/>
            <a:ext cx="8412120" cy="2043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500040" y="2356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готавливаемый продукт должен отвечать особенностям организации  выполняемых здесь операци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ческий процесс при любой форме потока должен предусматривать высокопроизводительные методы работы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абильность процесса и соблюдение технологического и трудового режим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93560" y="219240"/>
            <a:ext cx="8193240" cy="1858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357120" y="2356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лучшаются экономические показатели, т.е. лучше используются основные и оборотные средства, сокращается Т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ц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ециализация рабочих мест и бесперебойное их обслуживани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точному производству свойственна ритмичность выпуска продукции, а это способствует лучшему использованию материальных ресурс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1T13:24:17Z</dcterms:created>
  <dc:creator>Колмурзин</dc:creator>
  <dc:description/>
  <dc:language>en-US</dc:language>
  <cp:lastModifiedBy>Оля</cp:lastModifiedBy>
  <dcterms:modified xsi:type="dcterms:W3CDTF">2012-05-29T05:28:37Z</dcterms:modified>
  <cp:revision>8</cp:revision>
  <dc:subject/>
  <dc:title>Типы и формы организации производства</dc:title>
</cp:coreProperties>
</file>